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7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25.jpeg" ContentType="image/jpeg"/>
  <Override PartName="/ppt/media/image67.png" ContentType="image/png"/>
  <Override PartName="/ppt/media/image30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65.png" ContentType="image/png"/>
  <Override PartName="/ppt/media/image66.png" ContentType="image/png"/>
  <Override PartName="/ppt/media/image29.png" ContentType="image/png"/>
  <Override PartName="/ppt/media/image3.png" ContentType="image/png"/>
  <Override PartName="/ppt/media/image17.jpeg" ContentType="image/jpeg"/>
  <Override PartName="/ppt/media/image63.png" ContentType="image/png"/>
  <Override PartName="/ppt/media/image62.png" ContentType="image/png"/>
  <Override PartName="/ppt/media/image27.png" ContentType="image/png"/>
  <Override PartName="/ppt/media/image33.jpeg" ContentType="image/jpeg"/>
  <Override PartName="/ppt/media/image60.png" ContentType="image/png"/>
  <Override PartName="/ppt/media/image6.jpeg" ContentType="image/jpeg"/>
  <Override PartName="/ppt/media/image18.png" ContentType="image/png"/>
  <Override PartName="/ppt/media/image49.png" ContentType="image/png"/>
  <Override PartName="/ppt/media/image23.jpeg" ContentType="image/jpeg"/>
  <Override PartName="/ppt/media/image24.png" ContentType="image/png"/>
  <Override PartName="/ppt/media/image28.jpeg" ContentType="image/jpeg"/>
  <Override PartName="/ppt/media/image11.jpeg" ContentType="image/jpe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38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6.png" ContentType="image/png"/>
  <Override PartName="/ppt/media/image8.jpeg" ContentType="image/jpeg"/>
  <Override PartName="/ppt/media/image31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5254-D9E0-4A61-ABB2-F6C5B7C152D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Flach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fache Bauart, bes. geeignet für große Wellenabstände, hohe Geschw. (bis 100m/s), Mehrscheibenbertrieb, große Umfangskräfte mög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eingesetzt bei mittleren Leistungen im allg. Maschinenb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ppe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hohe Riemengeschwindigkeit (v=60m/s), kleiner ScheibenØ, hohe Flexibilität erlaubt kompakte Bauwe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ynchro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ex Bol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ue Abgrenzung des Einsatzgebietes zw. Flach-, Keil- und Keilrippenriemen gibt es für den normalen Anwendungsbereich in der Antriebstechnik n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B028-BD46-4682-83E6-DCA71C89E13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Flach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fache Bauart, bes. geeignet für große Wellenabstände, hohe Geschw. (bis 100m/s), Mehrscheibenbertrieb, große Umfangskräfte mög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eingesetzt bei mittleren Leistungen im allg. Maschinenb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ppe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hohe Riemengeschwindigkeit (v=60m/s), kleiner ScheibenØ, hohe Flexibilität erlaubt kompakte Bauwe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ynchro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ex Bol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ue Abgrenzung des Einsatzgebietes zw. Flach-, Keil- und Keilrippenriemen gibt es für den normalen Anwendungsbereich in der Antriebstechnik n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BDFB-2BFF-4EBF-A33E-ECDC38F30D4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e Antriebe haben die gleiche Leis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ber mit Hochleistungsflachriemen kann man höhere Umfangsgeschwindigkeiten errei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2E48-41A7-47C6-B828-06462A0B276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ibungserhöh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terialwah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rspann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schlingungswinkel (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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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8B7-2A55-4C52-B875-41179935F7E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Dehnspan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emenlänge kleiner als Wellenabstand, beim Auflegen muss Riemen gedehnt we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bar bei Wellenabstand &lt; 5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ro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nnrolle drückt nähe der kleinsten Scheibe von außen auf den Leertrum, dadurch vergrößert sich Umschlingungswinkel b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bar bei großen Trieben mit festen Wellenabs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rehrichtungswechsel ausgeschlo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schi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durch verstellen des Antriebsmotors wird Riemen gespan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schli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lbsttätiges Spannen durch Gewichtsstücke od. Fed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wip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otor sitzt auf Wip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urch das Rückdrehmoment des Motors wird Riemen selbsttätig gespan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durch passen sich schwankende Drehmomente an und ein rutschfreies Arbeiten ist gewährleist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igt zu Schwingungen, bei Neukonstruktion vermei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chwenksche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eststehender Antriebsmotor (M) mit Schwenkriemenscheibe 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S ist ein Zahnradpaar eingebaut, sodass große Übersetzungen ins Langsame erzielen l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41E1-ECCA-489C-9B92-33753C969CB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ufenscheiben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Änderung der Übersetzung i durch umlegen des Riemens auf andere Scheibenp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 Wellenabstand unverändert bleibt, muss Scheiben Ø so gewählt sein, das sich immer die gleiche Riemenlänge ergib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altvorgang im Stills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gelscheiben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ufenlose Änderung der Übersetz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erschieben des Riemens während Betrieb mit Gab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eiben gleiches Kegelverhältnis, wegen festen Wellenabstand und Riemenlä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scheibenverstell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ufenlose Veränderung der Übersetzung, durch Veränderung der RichtØ beider Schei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Ausrück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legen während des Betriebes Kraftfluss wird kurzzeitig unterbro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293D-7980-4800-945E-FACABC8B33B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ringe Beanspruchung Scheibe aus Leichtmetallen, Holz oder Kunstst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Kostengründen werden Scheiben aus dem Vollen gedreht oder gego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lachriemenscheiben sind nach DIN 111 genormt, siehe RM TB S. 171 Tabelle 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073F-9033-4FB3-864C-CA3EA8C36CA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rd bei Scheiben mit Ø größer 355mm angewan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eiben mit Armen verse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zahl der Arme kann man berechnen (z≈0,15∙√d(mm)≥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auffläche möglichst geschliffen, um Laufzeit des Riemens zu erhö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gibt geteilte Scheiben, lassen sich nachträglich zwischen Lagerstellen setzen und einfache Mon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ölbung das selbe wie bei Bodenschei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C2F-BA2F-4502-9CC4-0474CCB6B98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f497d"/>
                </a:solidFill>
                <a:latin typeface="Calibri"/>
              </a:rPr>
              <a:t>Riementriebe sind Zugmittelgetriebe, bei denen das biegeweiche elastische Zugmittel „Riemen“ rein reibschlüssig (kraftschlüssig) oder mit zusätzlichen Formschluß die Umfangskraft als Zugkraft von der Antriebs- zur Abtriebswelle  überträgt. Außer zur Leistungsübertragung werden die Flachriemen auch als Transportgurte zum Weiterleiten von Schütt- &amp; Stückgütern eingesetz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A7F2-BE84-44B8-B042-3596FA05D19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rmalkeil- &amp; Schmalkeilriemenscheiben sind nach DIN 2217 genormt. RM TB S. 174 Tabelle 16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ilrippenriemenscheiben sind nach DIN 7867 genormt, RM TB S. 175 Tabelle 16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geringeren Stückzahlen oder Einzelfertigungen werden die Schweißkonstruktionen bevorzu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A2BF-0710-4731-A8DD-CB124EE95CC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Leder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reinem Leder dadurch höhere Reibungswer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der Antriebstechnik von Mehrschicht &amp; Verbundriemen verdrän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Text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emen aus organischen Stoffen (Baumwolle, Tierhaare, Naturseide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zw. synthetischen Stoffen (Kunstseide, Nylon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öhere Kantenempfindlichkeit (Rissgefah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Antriebstechnik ohne Bedeu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unststoff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(Nylon, Perlon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Festigkeit bei konst. Temp. fast dehnungs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lechtes Reibungsverhalten, in der Antriebstechnik nur selten verwend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hrschicht- od. Verbund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lachriemen abgelö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lyamid-Zugelement kombiniert mit adhäsiven Laufflä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sitzen hohe Zugfestigkeitswerte (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450…600N/mm</a:t>
            </a:r>
            <a:r>
              <a:rPr b="0" lang="de-DE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), geringe Deh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Längsrichtung sehr flexibel &amp; unempfindlich gegen Schmiermittel sowie atmosphärischen Einflü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einer Schlupf, gute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98%, lange Lebensdau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m Wellenabstand (1: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önnen auch bei hohen Geschwindigkeiten eingesetzt werden, verdrängen in manchen Fällen auch die 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D086-70DC-4BCE-B6D3-8932C31193D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rapezförmige Querschnitts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e Zugschicht (endlosgewickelte Kordfäden aus Polyesterfaser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rn (hochwertige Kautschukmisch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hüllung aus gummierten Baumwollgewebe od. Synthetikgew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urch technischen Fortschritt mehrere Bauformen s. B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 größere Flexibilität zu erreichen sind Keilriemen gezahnt, dadurch kleinere Scheiben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Belastung wird Keilriemen in trapezförmige Rille der Scheibe gezogen, erzeugt an den beiden Flanken des Riemens den erforderlichen Reibschl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ungsbereiche + Eigenschaften TB 16-2 S. 16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3BB-026D-4689-9FB6-7CCB8DA20B5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ereinte Vorteile des Flachriemens mit Keilriem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hr bieg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Geschwindigkei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eise &amp; vibrationsfr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rd in ganzer breite gleichmäßig beanspr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llen verhindern verdrehen, dadurch abspringen verhind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Übersetzu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s zu 80°bestä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lektr. Leitfähig, bedingt ölresis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ungsbereiche + Eigenschaften TB 16-2 S. 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B99F-E750-4CBD-A785-403CC67113B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räfteverteilung am 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ilwinkel α ist genormt und liegt bei 32°-40° für Normal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F135-481B-4DE0-A167-34B472BE555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CAB-FEF1-41DB-AAB8-F5CBBB39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479-FC70-408F-BE0F-1860F906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DCF8E-EF4A-4492-A8D1-6AD3D14F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594E7-E52F-493F-A5FA-0EB36AB9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4601D-7D01-4345-AB33-D0B6F35A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B8D1C-8F34-43BD-BAA3-28285DA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E03BD-CA02-4EEE-BE94-60A75D6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8F42F-C84E-4FF1-A93C-02B44BB5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D4AC0-8E9B-44AD-A0F1-DFA09B1F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B8905-254C-4076-B7F1-39D42476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5864A-7E6C-4259-96E8-B8582900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2D5-57FA-40EC-B31E-1B2CF1D4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84E-64D7-4554-B916-EE56B286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0FC8-AC12-4BE0-9282-DC93E258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FE61-CD7B-400A-8369-FDC113C7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9292-479A-41B8-9647-CC06996D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3158-703C-4A0E-B7C0-BC19DEA3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099B-E33E-4915-AD77-AAD78AAC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4F83-F629-49CF-A7C5-57DFF9F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436E-6D5E-4410-8411-DF660D7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C72-93D1-47D9-9594-ACF1603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96BD-FB86-4DEF-99D3-51098D01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25A-A877-489D-AE2D-1CA8D938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46FE-DC7B-4824-8A4B-038AB8D4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8500-B297-44AC-9131-78DABB2F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A928-3002-4DC6-ADF2-C55D8770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7C99-41CE-4D25-A844-4B9C46FD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45E0-C426-4A08-B41D-F8CD7BF0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97E6-4FB6-45D4-AF72-F5CC2116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93703-4BBE-47C2-86DF-3ED38661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8DF3D-7863-4002-8C09-B6F06B6B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8F9-3372-43F9-9DEB-A2F4F2F5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BA97-66A0-49B7-9675-B460FC91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C626-8BD9-4571-899B-EA86F80D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00936-4052-4D4E-9F30-8C33C2B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CDC9-2175-4E43-AD2F-184DDD71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A359-D2FC-49E5-88B0-38056AC7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8DB7-24D6-4905-9722-2F83284F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E326-30BF-420C-A896-A306AC42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2E25-011C-42F0-8881-7D563D4D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503FD-87C9-4B9C-892A-AE586022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36B6-AD53-4425-8BB5-BB0B79C0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99E-5336-4CD1-B6F0-81217023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6195-19D3-45DC-8878-5756BB27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CB567-AF47-46E1-A82E-112B0627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784A5-A8C3-4706-93E3-8AAAF0AA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9E53-0237-4431-A1C5-81E7435F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9D02D-ABBD-4FDF-9053-E5A2FD2C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69E8-0486-4B2C-AF98-D9E08A7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2A76-E644-4F72-823E-98F86BC0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7405-DE62-4B9A-8112-593EA420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E10D-4661-45F1-BFF4-9BBA8E21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9E71-6B4F-42FB-A113-349DEB7E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0EE-C395-4098-B2A5-C2949E95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2A97-EFD1-4C04-A2F2-43D4718F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4FAB2-756D-475E-A802-A81FFE77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DAB4-F3B3-4800-B3E9-F3820E28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2751-240A-47B1-B826-2CD0A8CE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4CE58-04B8-4E62-9A33-2D7133F4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79A5-29EE-48F6-9F2B-32B0F4D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A0F1-84CE-49BF-BDFB-47463612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4255-3979-4340-9796-F2AFDFF3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94114-F04D-419E-B381-4D3A9E0C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6396-76C7-4DF1-AE28-63AD5863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4D0-25AA-4C0F-8A30-20FCF06E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DCD93-73BB-4B50-B988-C84F4892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E892E-09BB-4690-A362-198EE105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79F40-479A-4271-892E-2216BC0A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5F2F-A2B6-49D8-90C3-29459AF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9FED6-26B9-4818-9727-FB071824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FD1C-9D19-4744-A642-C4A4ABC7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4BE79-138B-48FA-8B82-7797A0D9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BD68C-4B8A-4DE6-A0BB-94BF24D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88C14-D8CB-4C7D-B19B-A58B712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9B09-F323-49A0-987F-A247492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A7C-25E1-46F2-A36E-32029F8D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0C5EE-02EC-4ACC-AE54-FA88D4A7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BD31C-0608-4F8E-BDD9-A58C4F9C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E0278-7CAF-43A7-9A52-B3154B4B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DE0C0-E54D-40EE-9F7B-51B7FEF8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C8D9-CDC9-485C-96F2-FFC68514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B8F61-D8A8-4F30-8662-ABD9CF1D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C72B4-3675-418B-8D86-5D85A5FE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B6158-CD2B-4592-B083-03A517F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7CFEB-7D98-415B-BBB6-3BC72EDF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2609D-22FF-40E2-BACC-D3F5A256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1BF-F545-4998-AE2E-C08F481D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944BB-21A4-4D4E-8FE0-82E0A3F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58530-2E29-4851-AED7-8EABFE1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60142-F071-4943-8FEB-B97D7166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D9C6-B826-48C8-8BC8-A517CB48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B9043-8B09-4E20-8358-FF78406B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13631-AE4D-493F-AF6E-6CF6EC90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B3491-AF75-47B0-9CFB-1F34A65B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6FE48-9EDE-4537-9D2D-0868CFDC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818D-BC07-40F3-8C91-3B7220C8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FC725-F7EF-4291-B27B-7D09B9E9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B10-3BEB-42B3-92FB-81A72BE1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D10BE-9BCB-4BCA-8B04-0D313777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2BC2F-0EA1-47A6-BCD9-AD238A5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6C42A-ED0A-48C5-BE90-36BE759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273F-F068-4F55-948A-C03C6B1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FDE5-F7EE-4FB4-B758-B14226C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B977C-01D2-4BFD-9AEB-88A7FAA8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082A1-7C72-4E3C-B3E5-31817282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E7CA1-D498-4C7F-B8CB-9901DF9E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92F21-0AEE-4839-8623-D9679240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1822C-7085-4D2B-8E95-00D147C6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erade Verbindung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Gerade Verbindung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5FAA-0697-4D99-B37A-278A13184A80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erade Verbindung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Gerade Verbindung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Gerade Verbindung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Gerade Verbindung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erade Verbindung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7FC7-31F8-4331-AF8B-72FB8AD59DFC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erade Verbindung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Gerade Verbindung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Gerade Verbindung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Gerade Verbindung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Gerade Verbindung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Gerade Verbindung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371B-04F0-4BC6-9A92-1D878351A24E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erade Verbindung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3709-520C-4D5A-A7F5-C803F8B17488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erade Verbindung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B381-35CE-4CCB-9893-4DBBB2D0764A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A470-DF6E-430F-9340-17A7AB5905AB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erade Verbindung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6E7-36EA-49ED-B266-4AFA79843EA5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4DC9-E7BD-4650-96C5-F9C60FBD305E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9CC9-4159-45B5-9410-B569AB882ED1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Grafik 11" descr="dampfmaschine_1924.jpg"/>
          <p:cNvPicPr/>
          <p:nvPr/>
        </p:nvPicPr>
        <p:blipFill>
          <a:blip r:embed="rId1"/>
          <a:stretch/>
        </p:blipFill>
        <p:spPr>
          <a:xfrm>
            <a:off x="1943280" y="1665360"/>
            <a:ext cx="4917960" cy="3638520"/>
          </a:xfrm>
          <a:prstGeom prst="rect">
            <a:avLst/>
          </a:prstGeom>
          <a:ln w="0">
            <a:noFill/>
          </a:ln>
        </p:spPr>
      </p:pic>
      <p:pic>
        <p:nvPicPr>
          <p:cNvPr id="407" name="Grafik 3" descr="Auto.jpg"/>
          <p:cNvPicPr/>
          <p:nvPr/>
        </p:nvPicPr>
        <p:blipFill>
          <a:blip r:embed="rId2"/>
          <a:stretch/>
        </p:blipFill>
        <p:spPr>
          <a:xfrm>
            <a:off x="0" y="260280"/>
            <a:ext cx="3336840" cy="2664000"/>
          </a:xfrm>
          <a:prstGeom prst="rect">
            <a:avLst/>
          </a:prstGeom>
          <a:ln w="0">
            <a:noFill/>
          </a:ln>
        </p:spPr>
      </p:pic>
      <p:pic>
        <p:nvPicPr>
          <p:cNvPr id="408" name="Grafik 4" descr="bohrmaschine.jpg"/>
          <p:cNvPicPr/>
          <p:nvPr/>
        </p:nvPicPr>
        <p:blipFill>
          <a:blip r:embed="rId3"/>
          <a:stretch/>
        </p:blipFill>
        <p:spPr>
          <a:xfrm>
            <a:off x="395280" y="3357720"/>
            <a:ext cx="2303640" cy="306864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8" descr="motorrad.jpg"/>
          <p:cNvPicPr/>
          <p:nvPr/>
        </p:nvPicPr>
        <p:blipFill>
          <a:blip r:embed="rId4"/>
          <a:stretch/>
        </p:blipFill>
        <p:spPr>
          <a:xfrm>
            <a:off x="3132000" y="76500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410" name="Grafik 9" descr="riemen_in_muhle_3802.jpg"/>
          <p:cNvPicPr/>
          <p:nvPr/>
        </p:nvPicPr>
        <p:blipFill>
          <a:blip r:embed="rId5"/>
          <a:stretch/>
        </p:blipFill>
        <p:spPr>
          <a:xfrm>
            <a:off x="2771640" y="3429000"/>
            <a:ext cx="3337200" cy="2502000"/>
          </a:xfrm>
          <a:prstGeom prst="rect">
            <a:avLst/>
          </a:prstGeom>
          <a:ln w="0">
            <a:noFill/>
          </a:ln>
        </p:spPr>
      </p:pic>
      <p:pic>
        <p:nvPicPr>
          <p:cNvPr id="411" name="Grafik 6" descr="flughafen.jpg"/>
          <p:cNvPicPr/>
          <p:nvPr/>
        </p:nvPicPr>
        <p:blipFill>
          <a:blip r:embed="rId6"/>
          <a:stretch/>
        </p:blipFill>
        <p:spPr>
          <a:xfrm>
            <a:off x="6012000" y="0"/>
            <a:ext cx="2916000" cy="2916360"/>
          </a:xfrm>
          <a:prstGeom prst="rect">
            <a:avLst/>
          </a:prstGeom>
          <a:ln w="0">
            <a:noFill/>
          </a:ln>
        </p:spPr>
      </p:pic>
      <p:pic>
        <p:nvPicPr>
          <p:cNvPr id="412" name="Grafik 7" descr="foerderband1.jpg"/>
          <p:cNvPicPr/>
          <p:nvPr/>
        </p:nvPicPr>
        <p:blipFill>
          <a:blip r:embed="rId7"/>
          <a:stretch/>
        </p:blipFill>
        <p:spPr>
          <a:xfrm>
            <a:off x="6162840" y="2852640"/>
            <a:ext cx="2981160" cy="1944720"/>
          </a:xfrm>
          <a:prstGeom prst="rect">
            <a:avLst/>
          </a:prstGeom>
          <a:ln w="0">
            <a:noFill/>
          </a:ln>
        </p:spPr>
      </p:pic>
      <p:pic>
        <p:nvPicPr>
          <p:cNvPr id="413" name="Grafik 5" descr="crosstrainer.jpg"/>
          <p:cNvPicPr/>
          <p:nvPr/>
        </p:nvPicPr>
        <p:blipFill>
          <a:blip r:embed="rId8"/>
          <a:stretch/>
        </p:blipFill>
        <p:spPr>
          <a:xfrm>
            <a:off x="6084720" y="4470480"/>
            <a:ext cx="2240280" cy="23875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"/>
          <p:cNvSpPr/>
          <p:nvPr/>
        </p:nvSpPr>
        <p:spPr>
          <a:xfrm>
            <a:off x="539640" y="4400640"/>
            <a:ext cx="3810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leine Vorspannung(&lt;1.5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Übersetzung (i&lt;2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leiner 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Drehmomtentstöß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4788000" y="184464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ppe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r Wellen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Übersetzung (i&lt;4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751280" y="4329000"/>
            <a:ext cx="4191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Synchro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inge Vorspannung (&lt;1.1 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onstante Übersetzung (i&lt;1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inkelgenaue 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 Schlup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Überlastsicherh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76360" y="2421000"/>
            <a:ext cx="42130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 Vorspannung (&lt;2 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mittlere Übersetzung (i&lt;15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 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eringe Laufgeräusch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r Wellen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Textfeld 12"/>
          <p:cNvSpPr/>
          <p:nvPr/>
        </p:nvSpPr>
        <p:spPr>
          <a:xfrm>
            <a:off x="2505960" y="112536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1. Wahl der Riemenar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65" name="Textfeld 5"/>
          <p:cNvSpPr/>
          <p:nvPr/>
        </p:nvSpPr>
        <p:spPr>
          <a:xfrm>
            <a:off x="2332440" y="1268280"/>
            <a:ext cx="42523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4e3b3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Wahl der Riemenar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Flach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ppe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Synchro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6" name="Picture 2" descr="http://www.paul-herkt.de/graphics/produkte/riemen.gif"/>
          <p:cNvPicPr/>
          <p:nvPr/>
        </p:nvPicPr>
        <p:blipFill>
          <a:blip r:embed="rId2"/>
          <a:srcRect l="3779" t="9527" r="0" b="7876"/>
          <a:stretch/>
        </p:blipFill>
        <p:spPr>
          <a:xfrm>
            <a:off x="184320" y="1628640"/>
            <a:ext cx="2044440" cy="1044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http://www.wmv-dresden-download.de/verschiedenes/keilriemen.JPG"/>
          <p:cNvPicPr/>
          <p:nvPr/>
        </p:nvPicPr>
        <p:blipFill>
          <a:blip r:embed="rId3"/>
          <a:srcRect l="0" t="1811" r="35451" b="0"/>
          <a:stretch/>
        </p:blipFill>
        <p:spPr>
          <a:xfrm>
            <a:off x="6696000" y="1665360"/>
            <a:ext cx="1621080" cy="1173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http://www.sternzeit-107.de/gallery/Keilriemen/Keilrippenriemen.gif"/>
          <p:cNvPicPr/>
          <p:nvPr/>
        </p:nvPicPr>
        <p:blipFill>
          <a:blip r:embed="rId4"/>
          <a:stretch/>
        </p:blipFill>
        <p:spPr>
          <a:xfrm>
            <a:off x="216000" y="3321000"/>
            <a:ext cx="2003400" cy="1295280"/>
          </a:xfrm>
          <a:prstGeom prst="rect">
            <a:avLst/>
          </a:prstGeom>
          <a:ln w="0">
            <a:noFill/>
          </a:ln>
        </p:spPr>
      </p:pic>
      <p:pic>
        <p:nvPicPr>
          <p:cNvPr id="469" name="Gerade Verbindung mit Pfeil 9" descr=""/>
          <p:cNvPicPr/>
          <p:nvPr/>
        </p:nvPicPr>
        <p:blipFill>
          <a:blip r:embed="rId5"/>
          <a:stretch/>
        </p:blipFill>
        <p:spPr>
          <a:xfrm>
            <a:off x="1682640" y="2176560"/>
            <a:ext cx="1541520" cy="517320"/>
          </a:xfrm>
          <a:prstGeom prst="rect">
            <a:avLst/>
          </a:prstGeom>
          <a:ln w="0">
            <a:noFill/>
          </a:ln>
        </p:spPr>
      </p:pic>
      <p:pic>
        <p:nvPicPr>
          <p:cNvPr id="470" name="Gerade Verbindung mit Pfeil 10" descr=""/>
          <p:cNvPicPr/>
          <p:nvPr/>
        </p:nvPicPr>
        <p:blipFill>
          <a:blip r:embed="rId6"/>
          <a:stretch/>
        </p:blipFill>
        <p:spPr>
          <a:xfrm>
            <a:off x="1719360" y="3438360"/>
            <a:ext cx="1365120" cy="981360"/>
          </a:xfrm>
          <a:prstGeom prst="rect">
            <a:avLst/>
          </a:prstGeom>
          <a:ln w="0">
            <a:noFill/>
          </a:ln>
        </p:spPr>
      </p:pic>
      <p:pic>
        <p:nvPicPr>
          <p:cNvPr id="471" name="Gerade Verbindung mit Pfeil 11" descr=""/>
          <p:cNvPicPr/>
          <p:nvPr/>
        </p:nvPicPr>
        <p:blipFill>
          <a:blip r:embed="rId7"/>
          <a:stretch/>
        </p:blipFill>
        <p:spPr>
          <a:xfrm>
            <a:off x="5114880" y="2036880"/>
            <a:ext cx="1835280" cy="895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http://www.lenze.de/lenze.de_de_active/200_Partner_Products/210_AT_Partner_Products/at_images/0110_Verbindungstechnik/0170_Zahnriemen/LEA33_Poly_Chain_GT_1307_w.jpg"/>
          <p:cNvPicPr/>
          <p:nvPr/>
        </p:nvPicPr>
        <p:blipFill>
          <a:blip r:embed="rId8"/>
          <a:stretch/>
        </p:blipFill>
        <p:spPr>
          <a:xfrm>
            <a:off x="5977080" y="3249720"/>
            <a:ext cx="2095200" cy="1438200"/>
          </a:xfrm>
          <a:prstGeom prst="rect">
            <a:avLst/>
          </a:prstGeom>
          <a:ln w="0">
            <a:noFill/>
          </a:ln>
        </p:spPr>
      </p:pic>
      <p:pic>
        <p:nvPicPr>
          <p:cNvPr id="473" name="Gerade Verbindung mit Pfeil 23" descr=""/>
          <p:cNvPicPr/>
          <p:nvPr/>
        </p:nvPicPr>
        <p:blipFill>
          <a:blip r:embed="rId9"/>
          <a:stretch/>
        </p:blipFill>
        <p:spPr>
          <a:xfrm>
            <a:off x="5121360" y="3608280"/>
            <a:ext cx="1218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5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35" descr=""/>
          <p:cNvPicPr/>
          <p:nvPr/>
        </p:nvPicPr>
        <p:blipFill>
          <a:blip r:embed="rId2"/>
          <a:stretch/>
        </p:blipFill>
        <p:spPr>
          <a:xfrm>
            <a:off x="2158920" y="1233360"/>
            <a:ext cx="5029200" cy="4751640"/>
          </a:xfrm>
          <a:prstGeom prst="rect">
            <a:avLst/>
          </a:prstGeom>
          <a:ln w="0">
            <a:noFill/>
          </a:ln>
        </p:spPr>
      </p:pic>
      <p:sp>
        <p:nvSpPr>
          <p:cNvPr id="477" name="Textfeld 6"/>
          <p:cNvSpPr/>
          <p:nvPr/>
        </p:nvSpPr>
        <p:spPr>
          <a:xfrm>
            <a:off x="4284360" y="59850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e3b30"/>
                </a:solidFill>
                <a:latin typeface="Franklin Gothic Book"/>
              </a:rPr>
              <a:t>RM S. 58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9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80" name="Textfeld 5"/>
          <p:cNvSpPr/>
          <p:nvPr/>
        </p:nvSpPr>
        <p:spPr>
          <a:xfrm>
            <a:off x="2935440" y="10159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2"/>
          <a:stretch/>
        </p:blipFill>
        <p:spPr>
          <a:xfrm>
            <a:off x="1835280" y="2168640"/>
            <a:ext cx="5167080" cy="2890800"/>
          </a:xfrm>
          <a:prstGeom prst="rect">
            <a:avLst/>
          </a:prstGeom>
          <a:ln w="0">
            <a:noFill/>
          </a:ln>
        </p:spPr>
      </p:pic>
      <p:sp>
        <p:nvSpPr>
          <p:cNvPr id="482" name="Textfeld 7"/>
          <p:cNvSpPr/>
          <p:nvPr/>
        </p:nvSpPr>
        <p:spPr>
          <a:xfrm>
            <a:off x="1869120" y="5373720"/>
            <a:ext cx="598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ste Bauform ohne Spannvorrichtung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leiche Drehbewegung der Riemenscheib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aagerechter, schräger und senkrechter Anordn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Textfeld 8"/>
          <p:cNvSpPr/>
          <p:nvPr/>
        </p:nvSpPr>
        <p:spPr>
          <a:xfrm>
            <a:off x="2940120" y="166536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offene Riemengetrieb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111600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Book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"/>
          <p:cNvPicPr/>
          <p:nvPr/>
        </p:nvPicPr>
        <p:blipFill>
          <a:blip r:embed="rId2"/>
          <a:stretch/>
        </p:blipFill>
        <p:spPr>
          <a:xfrm>
            <a:off x="4876920" y="1308240"/>
            <a:ext cx="4038480" cy="1695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876920" y="3193920"/>
            <a:ext cx="3933720" cy="1378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4"/>
          <a:stretch/>
        </p:blipFill>
        <p:spPr>
          <a:xfrm>
            <a:off x="4952880" y="4876920"/>
            <a:ext cx="3996000" cy="10159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4572000" y="1752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457200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4724280" y="5024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5759280" y="2673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kreuz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6300720" y="418464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bgekreuzt (geschränkt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7343640" y="55166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keltrieb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Textfeld 14"/>
          <p:cNvSpPr/>
          <p:nvPr/>
        </p:nvSpPr>
        <p:spPr>
          <a:xfrm>
            <a:off x="2935440" y="10159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Textfeld 16"/>
          <p:cNvSpPr/>
          <p:nvPr/>
        </p:nvSpPr>
        <p:spPr>
          <a:xfrm>
            <a:off x="739080" y="1808280"/>
            <a:ext cx="41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b) gekreu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Scheiben drehen entgegengeset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Berührung des Riemens vermeid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nur für Flachriemen geeigne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Textfeld 17"/>
          <p:cNvSpPr/>
          <p:nvPr/>
        </p:nvSpPr>
        <p:spPr>
          <a:xfrm>
            <a:off x="863280" y="335772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c) halbgekreu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gekreuzte Well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Textfeld 18"/>
          <p:cNvSpPr/>
          <p:nvPr/>
        </p:nvSpPr>
        <p:spPr>
          <a:xfrm>
            <a:off x="811800" y="4797360"/>
            <a:ext cx="36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d) Winkeltrie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ellenachsen mit Schnittpunk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Umlenkrolle notwendi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1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02" name="Textfeld 7"/>
          <p:cNvSpPr/>
          <p:nvPr/>
        </p:nvSpPr>
        <p:spPr>
          <a:xfrm>
            <a:off x="2935440" y="116064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3" name="Picture 14" descr=""/>
          <p:cNvPicPr/>
          <p:nvPr/>
        </p:nvPicPr>
        <p:blipFill>
          <a:blip r:embed="rId2"/>
          <a:stretch/>
        </p:blipFill>
        <p:spPr>
          <a:xfrm>
            <a:off x="5111640" y="1628640"/>
            <a:ext cx="3505320" cy="2252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5" descr=""/>
          <p:cNvPicPr/>
          <p:nvPr/>
        </p:nvPicPr>
        <p:blipFill>
          <a:blip r:embed="rId3"/>
          <a:stretch/>
        </p:blipFill>
        <p:spPr>
          <a:xfrm>
            <a:off x="5148360" y="396864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4572000" y="1916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4608360" y="414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228600" y="1905120"/>
            <a:ext cx="3962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443329"/>
                </a:solidFill>
                <a:uFillTx/>
                <a:latin typeface="Franklin Gothic Book"/>
              </a:rPr>
              <a:t>e) &amp; f) Mehrfachantrieb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eistungsverteil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in Antrieb, mehrere Abtrieb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Ober- und Unterseite des Riemens als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auffläch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Mehrfachbie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ahnriemen für winkelgetreue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setz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9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10" name="Textfeld 7"/>
          <p:cNvSpPr/>
          <p:nvPr/>
        </p:nvSpPr>
        <p:spPr>
          <a:xfrm>
            <a:off x="2676600" y="116064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3. Vorspannmöglichkeit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1" name="Picture 24" descr=""/>
          <p:cNvPicPr/>
          <p:nvPr/>
        </p:nvPicPr>
        <p:blipFill>
          <a:blip r:embed="rId2"/>
          <a:stretch/>
        </p:blipFill>
        <p:spPr>
          <a:xfrm>
            <a:off x="6407280" y="4197240"/>
            <a:ext cx="2438280" cy="1959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"/>
          <p:cNvPicPr/>
          <p:nvPr/>
        </p:nvPicPr>
        <p:blipFill>
          <a:blip r:embed="rId3"/>
          <a:stretch/>
        </p:blipFill>
        <p:spPr>
          <a:xfrm>
            <a:off x="539640" y="2313000"/>
            <a:ext cx="2514600" cy="1633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1" descr=""/>
          <p:cNvPicPr/>
          <p:nvPr/>
        </p:nvPicPr>
        <p:blipFill>
          <a:blip r:embed="rId4"/>
          <a:stretch/>
        </p:blipFill>
        <p:spPr>
          <a:xfrm>
            <a:off x="3587760" y="4265640"/>
            <a:ext cx="2514600" cy="1860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0" descr=""/>
          <p:cNvPicPr/>
          <p:nvPr/>
        </p:nvPicPr>
        <p:blipFill>
          <a:blip r:embed="rId5"/>
          <a:stretch/>
        </p:blipFill>
        <p:spPr>
          <a:xfrm>
            <a:off x="311040" y="4802040"/>
            <a:ext cx="3148200" cy="127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"/>
          <p:cNvPicPr/>
          <p:nvPr/>
        </p:nvPicPr>
        <p:blipFill>
          <a:blip r:embed="rId6"/>
          <a:stretch/>
        </p:blipFill>
        <p:spPr>
          <a:xfrm>
            <a:off x="6330960" y="2162160"/>
            <a:ext cx="2209680" cy="1708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6" descr=""/>
          <p:cNvPicPr/>
          <p:nvPr/>
        </p:nvPicPr>
        <p:blipFill>
          <a:blip r:embed="rId7"/>
          <a:stretch/>
        </p:blipFill>
        <p:spPr>
          <a:xfrm>
            <a:off x="3587760" y="1855800"/>
            <a:ext cx="2286000" cy="20271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3600360" y="1952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6300720" y="220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324000" y="4797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826920" y="386064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hnspannu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Text Box 12"/>
          <p:cNvSpPr/>
          <p:nvPr/>
        </p:nvSpPr>
        <p:spPr>
          <a:xfrm>
            <a:off x="684360" y="609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schlitt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4032360" y="6129360"/>
            <a:ext cx="14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wipp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468360" y="234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3959280" y="382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rol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6629400" y="3821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schien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3743280" y="4400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Text Box 25"/>
          <p:cNvSpPr/>
          <p:nvPr/>
        </p:nvSpPr>
        <p:spPr>
          <a:xfrm>
            <a:off x="6372360" y="4221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Text Box 26"/>
          <p:cNvSpPr/>
          <p:nvPr/>
        </p:nvSpPr>
        <p:spPr>
          <a:xfrm>
            <a:off x="6551640" y="61657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Schwenk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0" name="Picture 26" descr=""/>
          <p:cNvPicPr/>
          <p:nvPr/>
        </p:nvPicPr>
        <p:blipFill>
          <a:blip r:embed="rId1"/>
          <a:stretch/>
        </p:blipFill>
        <p:spPr>
          <a:xfrm>
            <a:off x="6535800" y="1752480"/>
            <a:ext cx="2414520" cy="3729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2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1695600" cy="3429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4"/>
          <p:cNvSpPr/>
          <p:nvPr/>
        </p:nvSpPr>
        <p:spPr>
          <a:xfrm>
            <a:off x="304920" y="57913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ufen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3623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gel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858000" y="5791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ückgetrie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5" name="Picture 23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1703160" cy="2986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4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427120" cy="31147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5"/>
          <p:cNvSpPr/>
          <p:nvPr/>
        </p:nvSpPr>
        <p:spPr>
          <a:xfrm>
            <a:off x="44197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Keil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8" name="Titel 1" descr=""/>
          <p:cNvPicPr/>
          <p:nvPr/>
        </p:nvPicPr>
        <p:blipFill>
          <a:blip r:embed="rId5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39" name="Textfeld 15"/>
          <p:cNvSpPr/>
          <p:nvPr/>
        </p:nvSpPr>
        <p:spPr>
          <a:xfrm>
            <a:off x="2305800" y="11606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Verstell- bzw. Schaltgetrieb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1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42" name="Textfeld 7"/>
          <p:cNvSpPr/>
          <p:nvPr/>
        </p:nvSpPr>
        <p:spPr>
          <a:xfrm>
            <a:off x="2893320" y="1160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3" name="Picture 7" descr=""/>
          <p:cNvPicPr/>
          <p:nvPr/>
        </p:nvPicPr>
        <p:blipFill>
          <a:blip r:embed="rId2"/>
          <a:stretch/>
        </p:blipFill>
        <p:spPr>
          <a:xfrm>
            <a:off x="6408720" y="3824280"/>
            <a:ext cx="1889280" cy="2505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3"/>
          <a:stretch/>
        </p:blipFill>
        <p:spPr>
          <a:xfrm>
            <a:off x="900000" y="3392640"/>
            <a:ext cx="4929480" cy="3124080"/>
          </a:xfrm>
          <a:prstGeom prst="rect">
            <a:avLst/>
          </a:prstGeom>
          <a:ln w="0">
            <a:noFill/>
          </a:ln>
        </p:spPr>
      </p:pic>
      <p:pic>
        <p:nvPicPr>
          <p:cNvPr id="545" name="Rectangle 3" descr=""/>
          <p:cNvPicPr/>
          <p:nvPr/>
        </p:nvPicPr>
        <p:blipFill>
          <a:blip r:embed="rId4"/>
          <a:stretch/>
        </p:blipFill>
        <p:spPr>
          <a:xfrm>
            <a:off x="139680" y="1474920"/>
            <a:ext cx="6364440" cy="75564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-252360" y="1413000"/>
            <a:ext cx="72374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Werkstoff: Gusseisen, Stahlguss oder Stah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Durchmesser: d &lt; 355 m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Lauffläche geschliff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gewölbte Lauffläche sollen Riemen zentrieren und ablaufen verhinder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7" name="Picture 8" descr=""/>
          <p:cNvPicPr/>
          <p:nvPr/>
        </p:nvPicPr>
        <p:blipFill>
          <a:blip r:embed="rId5"/>
          <a:stretch/>
        </p:blipFill>
        <p:spPr>
          <a:xfrm>
            <a:off x="6551640" y="1219320"/>
            <a:ext cx="1601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9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50" name="Textfeld 8"/>
          <p:cNvSpPr/>
          <p:nvPr/>
        </p:nvSpPr>
        <p:spPr>
          <a:xfrm>
            <a:off x="2893320" y="112536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1" name="Picture 11" descr=""/>
          <p:cNvPicPr/>
          <p:nvPr/>
        </p:nvPicPr>
        <p:blipFill>
          <a:blip r:embed="rId2"/>
          <a:stretch/>
        </p:blipFill>
        <p:spPr>
          <a:xfrm>
            <a:off x="5616720" y="3645000"/>
            <a:ext cx="3047760" cy="2601720"/>
          </a:xfrm>
          <a:prstGeom prst="rect">
            <a:avLst/>
          </a:prstGeom>
          <a:ln w="0">
            <a:noFill/>
          </a:ln>
        </p:spPr>
      </p:pic>
      <p:pic>
        <p:nvPicPr>
          <p:cNvPr id="552" name="Rectangle 5" descr=""/>
          <p:cNvPicPr/>
          <p:nvPr/>
        </p:nvPicPr>
        <p:blipFill>
          <a:blip r:embed="rId3"/>
          <a:stretch/>
        </p:blipFill>
        <p:spPr>
          <a:xfrm>
            <a:off x="103320" y="1798560"/>
            <a:ext cx="5224320" cy="755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"/>
          <p:cNvPicPr/>
          <p:nvPr/>
        </p:nvPicPr>
        <p:blipFill>
          <a:blip r:embed="rId4"/>
          <a:stretch/>
        </p:blipFill>
        <p:spPr>
          <a:xfrm>
            <a:off x="216000" y="2924280"/>
            <a:ext cx="4795560" cy="3300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" descr=""/>
          <p:cNvPicPr/>
          <p:nvPr/>
        </p:nvPicPr>
        <p:blipFill>
          <a:blip r:embed="rId5"/>
          <a:stretch/>
        </p:blipFill>
        <p:spPr>
          <a:xfrm>
            <a:off x="6372360" y="1125360"/>
            <a:ext cx="2008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17" name="Textfeld 6"/>
          <p:cNvSpPr/>
          <p:nvPr/>
        </p:nvSpPr>
        <p:spPr>
          <a:xfrm>
            <a:off x="971640" y="2205000"/>
            <a:ext cx="72374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Reib- oder formschlüssige Momentenübertragung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über ein biegeweiches, elastisches Zugmittel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(Riemen), zwischen zwei oder mehreren Wel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neben Lastübertragung werden Flachriemen als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Transportgurt eingesetz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6" name="Picture 8" descr=""/>
          <p:cNvPicPr/>
          <p:nvPr/>
        </p:nvPicPr>
        <p:blipFill>
          <a:blip r:embed="rId1"/>
          <a:stretch/>
        </p:blipFill>
        <p:spPr>
          <a:xfrm>
            <a:off x="861840" y="3224160"/>
            <a:ext cx="3200400" cy="220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76360" y="2205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e3b30"/>
                </a:solidFill>
                <a:latin typeface="Arial"/>
              </a:rPr>
              <a:t>geschweißte Flachriemenscheib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8" name="Picture 10" descr=""/>
          <p:cNvPicPr/>
          <p:nvPr/>
        </p:nvPicPr>
        <p:blipFill>
          <a:blip r:embed="rId2"/>
          <a:stretch/>
        </p:blipFill>
        <p:spPr>
          <a:xfrm>
            <a:off x="4896000" y="238428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1"/>
          <p:cNvSpPr/>
          <p:nvPr/>
        </p:nvSpPr>
        <p:spPr>
          <a:xfrm>
            <a:off x="5219640" y="1736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e3b30"/>
                </a:solidFill>
                <a:latin typeface="Arial"/>
              </a:rPr>
              <a:t>Keil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4859280" y="37530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Voll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4684680" y="5827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gossene Boden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2" name="Text Box 14"/>
          <p:cNvSpPr/>
          <p:nvPr/>
        </p:nvSpPr>
        <p:spPr>
          <a:xfrm>
            <a:off x="6437160" y="58276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löte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7504200" y="5827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schweiß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4" name="Titel 1" descr=""/>
          <p:cNvPicPr/>
          <p:nvPr/>
        </p:nvPicPr>
        <p:blipFill>
          <a:blip r:embed="rId3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65" name="Textfeld 15"/>
          <p:cNvSpPr/>
          <p:nvPr/>
        </p:nvSpPr>
        <p:spPr>
          <a:xfrm>
            <a:off x="3000960" y="1160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Textfeld 5"/>
          <p:cNvSpPr/>
          <p:nvPr/>
        </p:nvSpPr>
        <p:spPr>
          <a:xfrm>
            <a:off x="1871640" y="1557360"/>
            <a:ext cx="6337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lastische Kraft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äuscharmer, stoß- &amp; schwingungsdämpfender Lau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er, preiswerter Aufba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brückung größerer Wellenabstä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Schmier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bzw. geringe Wart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hohe Umfangs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el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472600" cy="130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Textfeld 3"/>
          <p:cNvSpPr/>
          <p:nvPr/>
        </p:nvSpPr>
        <p:spPr>
          <a:xfrm>
            <a:off x="1258920" y="1916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kraftschlüssig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.B.: - 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Keil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Textfeld 4"/>
          <p:cNvSpPr/>
          <p:nvPr/>
        </p:nvSpPr>
        <p:spPr>
          <a:xfrm>
            <a:off x="5076720" y="1916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formschlüssi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.B.: - Synchronriemen (Zahnriemen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2" name="Grafik 5" descr="Flachriemen.jpg"/>
          <p:cNvPicPr/>
          <p:nvPr/>
        </p:nvPicPr>
        <p:blipFill>
          <a:blip r:embed="rId2"/>
          <a:stretch/>
        </p:blipFill>
        <p:spPr>
          <a:xfrm>
            <a:off x="539640" y="3429000"/>
            <a:ext cx="1422360" cy="158436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keilriemen.jpg"/>
          <p:cNvPicPr/>
          <p:nvPr/>
        </p:nvPicPr>
        <p:blipFill>
          <a:blip r:embed="rId3"/>
          <a:stretch/>
        </p:blipFill>
        <p:spPr>
          <a:xfrm>
            <a:off x="2340000" y="3429000"/>
            <a:ext cx="1584360" cy="1589040"/>
          </a:xfrm>
          <a:prstGeom prst="rect">
            <a:avLst/>
          </a:prstGeom>
          <a:ln w="0">
            <a:noFill/>
          </a:ln>
        </p:spPr>
      </p:pic>
      <p:pic>
        <p:nvPicPr>
          <p:cNvPr id="424" name="Grafik 7" descr="zahriemen.jpg"/>
          <p:cNvPicPr/>
          <p:nvPr/>
        </p:nvPicPr>
        <p:blipFill>
          <a:blip r:embed="rId4"/>
          <a:stretch/>
        </p:blipFill>
        <p:spPr>
          <a:xfrm>
            <a:off x="5724360" y="3249720"/>
            <a:ext cx="1994040" cy="1906560"/>
          </a:xfrm>
          <a:prstGeom prst="rect">
            <a:avLst/>
          </a:prstGeom>
          <a:ln w="0">
            <a:noFill/>
          </a:ln>
        </p:spPr>
      </p:pic>
      <p:pic>
        <p:nvPicPr>
          <p:cNvPr id="425" name="Gerade Verbindung mit Pfeil 9" descr=""/>
          <p:cNvPicPr/>
          <p:nvPr/>
        </p:nvPicPr>
        <p:blipFill>
          <a:blip r:embed="rId5"/>
          <a:stretch/>
        </p:blipFill>
        <p:spPr>
          <a:xfrm>
            <a:off x="2548080" y="1133640"/>
            <a:ext cx="1908000" cy="981000"/>
          </a:xfrm>
          <a:prstGeom prst="rect">
            <a:avLst/>
          </a:prstGeom>
          <a:ln w="0">
            <a:noFill/>
          </a:ln>
        </p:spPr>
      </p:pic>
      <p:pic>
        <p:nvPicPr>
          <p:cNvPr id="426" name="Gerade Verbindung mit Pfeil 10" descr=""/>
          <p:cNvPicPr/>
          <p:nvPr/>
        </p:nvPicPr>
        <p:blipFill>
          <a:blip r:embed="rId6"/>
          <a:stretch/>
        </p:blipFill>
        <p:spPr>
          <a:xfrm>
            <a:off x="4286160" y="1133640"/>
            <a:ext cx="14083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feld 5"/>
          <p:cNvSpPr/>
          <p:nvPr/>
        </p:nvSpPr>
        <p:spPr>
          <a:xfrm>
            <a:off x="1871640" y="1557360"/>
            <a:ext cx="6337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lastische Kraft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äuscharmer, stoß- &amp; schwingungsdämpfender Lau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er, preiswerter Aufba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brückung größerer Wellenabstä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Schmier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bzw. geringe Wart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hohe Umfangs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32" name="Textfeld 6"/>
          <p:cNvSpPr/>
          <p:nvPr/>
        </p:nvSpPr>
        <p:spPr>
          <a:xfrm>
            <a:off x="1907640" y="1557360"/>
            <a:ext cx="625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Schlupf bei 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konst. Übersetzung bei Keil- &amp; Keilrippen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ößere Wellenabstand &amp; Platzbedar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begrenzter Temperaturberei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Umwelteinflüsse haben Einfluss auf Reibungsverhalt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6" descr="Flachriemenaufbau.jpg"/>
          <p:cNvPicPr/>
          <p:nvPr/>
        </p:nvPicPr>
        <p:blipFill>
          <a:blip r:embed="rId2"/>
          <a:stretch/>
        </p:blipFill>
        <p:spPr>
          <a:xfrm>
            <a:off x="1295280" y="2852640"/>
            <a:ext cx="6732720" cy="3627360"/>
          </a:xfrm>
          <a:prstGeom prst="rect">
            <a:avLst/>
          </a:prstGeom>
          <a:ln w="0">
            <a:noFill/>
          </a:ln>
        </p:spPr>
      </p:pic>
      <p:sp>
        <p:nvSpPr>
          <p:cNvPr id="436" name="Textfeld 8"/>
          <p:cNvSpPr/>
          <p:nvPr/>
        </p:nvSpPr>
        <p:spPr>
          <a:xfrm>
            <a:off x="216000" y="1881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Textilriemen (nicht in der Antriebstechnik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Textfeld 9"/>
          <p:cNvSpPr/>
          <p:nvPr/>
        </p:nvSpPr>
        <p:spPr>
          <a:xfrm>
            <a:off x="5003640" y="1160640"/>
            <a:ext cx="259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unststoff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Textfeld 11"/>
          <p:cNvSpPr/>
          <p:nvPr/>
        </p:nvSpPr>
        <p:spPr>
          <a:xfrm>
            <a:off x="5040360" y="18082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Mehrschicht- oder Verbund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Textfeld 14"/>
          <p:cNvSpPr/>
          <p:nvPr/>
        </p:nvSpPr>
        <p:spPr>
          <a:xfrm>
            <a:off x="216000" y="1160640"/>
            <a:ext cx="23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eder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1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42" name="Grafik 8" descr="Keilriemenarten.jpg"/>
          <p:cNvPicPr/>
          <p:nvPr/>
        </p:nvPicPr>
        <p:blipFill>
          <a:blip r:embed="rId2"/>
          <a:stretch/>
        </p:blipFill>
        <p:spPr>
          <a:xfrm>
            <a:off x="863640" y="1773360"/>
            <a:ext cx="7488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924360" cy="351648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7"/>
          <p:cNvSpPr/>
          <p:nvPr/>
        </p:nvSpPr>
        <p:spPr>
          <a:xfrm>
            <a:off x="1144800" y="501336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Nebenaggregateantrie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7" name="Picture 4" descr="http://i.auto-bild.de/ir_img/58054550_9d3e4aa27a.jpg"/>
          <p:cNvPicPr/>
          <p:nvPr/>
        </p:nvPicPr>
        <p:blipFill>
          <a:blip r:embed="rId3"/>
          <a:stretch/>
        </p:blipFill>
        <p:spPr>
          <a:xfrm>
            <a:off x="4535640" y="1700280"/>
            <a:ext cx="4414680" cy="2941560"/>
          </a:xfrm>
          <a:prstGeom prst="rect">
            <a:avLst/>
          </a:prstGeom>
          <a:ln w="0">
            <a:noFill/>
          </a:ln>
        </p:spPr>
      </p:pic>
      <p:sp>
        <p:nvSpPr>
          <p:cNvPr id="448" name="Textfeld 8"/>
          <p:cNvSpPr/>
          <p:nvPr/>
        </p:nvSpPr>
        <p:spPr>
          <a:xfrm>
            <a:off x="5463720" y="479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lrippenantrieb im Au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tedata.com/uploads/pics/3k_10t_1_3_i04.gif"/>
          <p:cNvPicPr/>
          <p:nvPr/>
        </p:nvPicPr>
        <p:blipFill>
          <a:blip r:embed="rId2"/>
          <a:stretch/>
        </p:blipFill>
        <p:spPr>
          <a:xfrm>
            <a:off x="1655640" y="1233360"/>
            <a:ext cx="6220080" cy="3959280"/>
          </a:xfrm>
          <a:prstGeom prst="rect">
            <a:avLst/>
          </a:prstGeom>
          <a:ln w="0">
            <a:noFill/>
          </a:ln>
        </p:spPr>
      </p:pic>
      <p:sp>
        <p:nvSpPr>
          <p:cNvPr id="452" name="Textfeld 6"/>
          <p:cNvSpPr/>
          <p:nvPr/>
        </p:nvSpPr>
        <p:spPr>
          <a:xfrm>
            <a:off x="3959280" y="3789360"/>
            <a:ext cx="433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Franklin Gothic Book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Textfeld 7"/>
          <p:cNvSpPr/>
          <p:nvPr/>
        </p:nvSpPr>
        <p:spPr>
          <a:xfrm>
            <a:off x="6156360" y="2492280"/>
            <a:ext cx="53964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F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Franklin Gothic Boo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Textfeld 8"/>
          <p:cNvSpPr/>
          <p:nvPr/>
        </p:nvSpPr>
        <p:spPr>
          <a:xfrm>
            <a:off x="1979640" y="2600280"/>
            <a:ext cx="53964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F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Franklin Gothic Boo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Textfeld 9"/>
          <p:cNvSpPr/>
          <p:nvPr/>
        </p:nvSpPr>
        <p:spPr>
          <a:xfrm>
            <a:off x="3537720" y="5445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räfte am Keil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3:57:17Z</dcterms:created>
  <dc:creator>Daniel</dc:creator>
  <dc:description/>
  <dc:language>en-US</dc:language>
  <cp:lastModifiedBy>Daniel</cp:lastModifiedBy>
  <dcterms:modified xsi:type="dcterms:W3CDTF">2010-11-11T16:59:38Z</dcterms:modified>
  <cp:revision>88</cp:revision>
  <dc:subject/>
  <dc:title>Folie 1</dc:title>
</cp:coreProperties>
</file>